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27A3-7D01-406A-9CF2-77A18F58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CC88-3CC1-49CB-95DE-53540D36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9A1-69A3-4EDA-B593-2F6E367B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280F-B242-4D40-AB57-6DDAE7A9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A91A-3F76-4538-9B02-D19ED4CF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DBDB-2D79-4F90-8740-9099D283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963F-BE62-42BB-B759-29BD0BF8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4A38-B107-49D2-ACC9-D37F71A7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70BF-02D5-4D65-9812-B6C370F9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5CCC-8549-4B79-955E-AAEF3BD0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ACDE-57C8-440C-8841-ECDF809C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CCC-5F7C-4007-8A13-071B4E8A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6054-59E7-43B1-AEBE-CFE6F794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CC62-683F-4ECE-AD7C-87678CE1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258F-B840-479A-9FEA-2A0E3DC5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7561-64A8-4389-8ACA-63C3B5C8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E9D2-6CE5-4970-9A6C-DFCA6339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E8CD9-843C-49AD-B856-DF9C5E3B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7FF95-1DCC-49E0-842F-E4111AAA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0E791-F703-42B8-BE80-F82F01A3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F6E2E-43A5-4855-96A3-FEA17AD0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ABB18-257B-4070-A98B-CB8625C2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93CB-BD73-4DE3-8F04-6BB7320E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3D026-D83F-4488-987D-BC3C06DB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0173C-6E96-4243-85C5-9A9ADF0F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4452F-C0D5-49E5-B0D4-C2DBDD20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42EAB-F321-4722-B1DB-E72B51DA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7DA32-59D9-4AF5-87F5-E4A1F302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7DD36-54C0-4EC3-97DB-25CEC674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68494-937A-4994-B07F-D780B45A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F82-DBA2-4674-B964-46546B72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F1F7-56E3-43C0-9081-16430627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2B8F-9D5A-4473-A115-D175F43E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F0BA-F790-444F-BB14-F2BCBC30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FED7-5BFD-484B-AFDA-40FB015B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CB40-4D99-4A77-9FE4-09FB3757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0BC6-F6C3-4329-8C24-E0D5C9099587}" type="slidenum">
              <a:rPr b="1" lang="ru-RU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9426-C8F8-4965-945D-F79CF3751552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47AD-64A0-4F75-935C-958CFF3451CA}" type="slidenum">
              <a:rPr b="1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1992240" cy="14936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901800" y="2792520"/>
            <a:ext cx="754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Отдельные вопросы по годовой отчетности за 2022 года и особенности формирования в 2023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1"/>
          <p:cNvSpPr/>
          <p:nvPr/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E82C-65F7-4C49-B45E-7BEDB56745D0}" type="slidenum">
              <a:rPr b="1" lang="ru-RU" sz="1000" spc="-1" strike="noStrike">
                <a:solidFill>
                  <a:srgbClr val="d1282e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871800" cy="403236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2"/>
          <p:cNvSpPr/>
          <p:nvPr/>
        </p:nvSpPr>
        <p:spPr>
          <a:xfrm>
            <a:off x="4122720" y="1351080"/>
            <a:ext cx="4552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447920"/>
                <a:tab algn="l" pos="2895480"/>
                <a:tab algn="l" pos="4343400"/>
                <a:tab algn="l" pos="5791320"/>
                <a:tab algn="l" pos="7238880"/>
                <a:tab algn="l" pos="8686800"/>
                <a:tab algn="l" pos="1013472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447920"/>
                <a:tab algn="l" pos="2895480"/>
                <a:tab algn="l" pos="4343400"/>
                <a:tab algn="l" pos="5791320"/>
                <a:tab algn="l" pos="7238880"/>
                <a:tab algn="l" pos="8686800"/>
                <a:tab algn="l" pos="10134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целями предоставления средств предусматривается (планируется) осуществление как капитальных вложений, так и расходов текущего характера (не являющихся капитальными вложениями), и на капитальные вложения предусматривается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80 процентов и боле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редств от общего объема предоставляемых средств, то указанные перечисления (поступления)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ризнаются перечислениями (поступлениями) капитального характ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447920"/>
                <a:tab algn="l" pos="2895480"/>
                <a:tab algn="l" pos="4343400"/>
                <a:tab algn="l" pos="5791320"/>
                <a:tab algn="l" pos="7238880"/>
                <a:tab algn="l" pos="8686800"/>
                <a:tab algn="l" pos="1013472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Ес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целями предоставления средств предусматривается (планируется) осуществление как капитальных вложений, так и расходов текущего характера, при этом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достоверно определить долю средств на капитальные вложения и текущие расходы не представляется возможны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то указанные перечисления (поступления)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ризнаются перечислениями (поступлениями) текущего характе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573120" y="727200"/>
            <a:ext cx="8102520" cy="645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3"/>
          <a:stretch/>
        </p:blipFill>
        <p:spPr>
          <a:xfrm>
            <a:off x="4122720" y="233280"/>
            <a:ext cx="4950000" cy="493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4"/>
          <a:stretch/>
        </p:blipFill>
        <p:spPr>
          <a:xfrm>
            <a:off x="4178160" y="1465200"/>
            <a:ext cx="40176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2"/>
          <p:cNvSpPr/>
          <p:nvPr/>
        </p:nvSpPr>
        <p:spPr>
          <a:xfrm>
            <a:off x="611280" y="47628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П.14 СГС «Консолидированная отчет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нсолидированная бухгалтерская (финансовая) отчетность составляется путем суммирования одноименных показателей по строкам и графам бухгалтерской отчетности, входящих в периметр консолидации, и исключения взаимосвязанных показателей по операциям между ними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ff"/>
                </a:solidFill>
                <a:latin typeface="Arial"/>
                <a:ea typeface="Arial"/>
              </a:rPr>
              <a:t>в 2022 го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1155600" y="2425680"/>
            <a:ext cx="2089080" cy="1363680"/>
          </a:xfrm>
          <a:prstGeom prst="rect">
            <a:avLst/>
          </a:prstGeom>
          <a:solidFill>
            <a:srgbClr val="ea9b7c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. 0503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5821200" y="2425680"/>
            <a:ext cx="2232360" cy="1363680"/>
          </a:xfrm>
          <a:prstGeom prst="rect">
            <a:avLst/>
          </a:prstGeom>
          <a:solidFill>
            <a:srgbClr val="a1a1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. 05037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1"/>
          <a:stretch/>
        </p:blipFill>
        <p:spPr>
          <a:xfrm>
            <a:off x="1141560" y="4365720"/>
            <a:ext cx="2116080" cy="139536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6"/>
          <p:cNvSpPr/>
          <p:nvPr/>
        </p:nvSpPr>
        <p:spPr>
          <a:xfrm>
            <a:off x="5889600" y="4365720"/>
            <a:ext cx="2232000" cy="1395360"/>
          </a:xfrm>
          <a:prstGeom prst="rect">
            <a:avLst/>
          </a:prstGeom>
          <a:solidFill>
            <a:srgbClr val="ea9b7c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05037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3876480" y="41940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ff"/>
                </a:solidFill>
                <a:latin typeface="Arial"/>
                <a:ea typeface="Arial"/>
              </a:rPr>
              <a:t>в 2023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8"/>
          <p:cNvSpPr/>
          <p:nvPr/>
        </p:nvSpPr>
        <p:spPr>
          <a:xfrm>
            <a:off x="611280" y="602136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части расчетов по передаче нефинансовых активов, обязатель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2"/>
          <a:stretch/>
        </p:blipFill>
        <p:spPr>
          <a:xfrm>
            <a:off x="4029120" y="4562640"/>
            <a:ext cx="1190520" cy="1458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3"/>
          <a:stretch/>
        </p:blipFill>
        <p:spPr>
          <a:xfrm>
            <a:off x="3633840" y="2784600"/>
            <a:ext cx="185580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Скругленный прямоугольник 2"/>
          <p:cNvSpPr/>
          <p:nvPr/>
        </p:nvSpPr>
        <p:spPr>
          <a:xfrm>
            <a:off x="263520" y="260280"/>
            <a:ext cx="864252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e67c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  <a:ea typeface="Tahoma"/>
              </a:rPr>
              <a:t>Нормативные докум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"/>
          <p:cNvSpPr/>
          <p:nvPr/>
        </p:nvSpPr>
        <p:spPr>
          <a:xfrm>
            <a:off x="395280" y="1052640"/>
            <a:ext cx="8280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Минфина России от 27.09.2022 №02-07-07/931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соответствия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тической группы подвида доходов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ов и статей (подстатей) классификации операций сектора государственного управления, применяемая в 2022 году в целях бухгалтерского (бюджетного) учета при безвозмездных неденежных передач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соответствия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ов расходов классификации расходов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ов и статей (подстатей) классификации операций сектора государственного управления, применяемая в 2022 году в целях бухгалтерского (бюджетного) учета при безвозмездных неденежных передач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2"/>
          <p:cNvSpPr/>
          <p:nvPr/>
        </p:nvSpPr>
        <p:spPr>
          <a:xfrm>
            <a:off x="2471760" y="5842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Алгоритм работы в 2023 году по выверке расчетов по нефинансовым актив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603360" y="1716120"/>
            <a:ext cx="8216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особление расчетов по передаче имущества на соответствующих счетах аналитического учета (Письмо Минфина России от 27.09.2022 №02-07-07/93188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зенных учреждений с применением приложений 1-КУ (получен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щества), 2-КУ (передача имуществ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бюджетных, автономных учреждений с применением прилож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БУАУ (получение имущества), 2-БУАУ (передача имуще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жеквартальное заполнение приложений и направление в минфин 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0 числ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ледующего за отчетным кварт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зенным учреждениям 3КУ, 4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бюджетным, автономным учреждениям 3БУАУ, 4БУ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полнение ф. 425 на основании приложений 3КУ, 4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полнение ф. 725 на основании приложений 3БУАУ, 4БУ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7308720" y="4548240"/>
            <a:ext cx="1440000" cy="169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576360" y="333360"/>
            <a:ext cx="138276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Скругленный прямоугольник 4"/>
          <p:cNvSpPr/>
          <p:nvPr/>
        </p:nvSpPr>
        <p:spPr>
          <a:xfrm>
            <a:off x="322200" y="189000"/>
            <a:ext cx="84978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e67c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19064"/>
                </a:solidFill>
                <a:latin typeface="Tahoma"/>
                <a:ea typeface="Tahoma"/>
              </a:rPr>
              <a:t>Консолидация в годовой отчетности за 2023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"/>
          <p:cNvSpPr/>
          <p:nvPr/>
        </p:nvSpPr>
        <p:spPr>
          <a:xfrm flipV="1" rot="10800000">
            <a:off x="449280" y="69192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Narrow"/>
                <a:ea typeface="Arial"/>
              </a:rPr>
              <a:t>Внутриведомственные расчеты (между учреждениями, подведомственными одному ГРБС, одному учредител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322200" y="1484280"/>
            <a:ext cx="8497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2"/>
          <p:cNvSpPr/>
          <p:nvPr/>
        </p:nvSpPr>
        <p:spPr>
          <a:xfrm flipV="1" rot="10800000">
            <a:off x="213840" y="69192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Narrow"/>
                <a:ea typeface="Arial"/>
              </a:rPr>
              <a:t>2. Межведомственные расчеты в рамках одного уровня бюджета (между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Narrow"/>
                <a:ea typeface="Arial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  <a:ea typeface="Arial"/>
              </a:rPr>
              <a:t>учреждениями, подведомственными разным ГРБС, разным учредителя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3"/>
          <p:cNvSpPr/>
          <p:nvPr/>
        </p:nvSpPr>
        <p:spPr>
          <a:xfrm>
            <a:off x="214200" y="115920"/>
            <a:ext cx="864252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e67c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19064"/>
                </a:solidFill>
                <a:latin typeface="Tahoma"/>
                <a:ea typeface="Tahoma"/>
              </a:rPr>
              <a:t>Консолидация в годовой отчетности за 2023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214200" y="1338120"/>
            <a:ext cx="864252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Скругленный прямоугольник 2"/>
          <p:cNvSpPr/>
          <p:nvPr/>
        </p:nvSpPr>
        <p:spPr>
          <a:xfrm>
            <a:off x="214200" y="115920"/>
            <a:ext cx="864252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e67c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19064"/>
                </a:solidFill>
                <a:latin typeface="Tahoma"/>
                <a:ea typeface="Tahoma"/>
              </a:rPr>
              <a:t>Остается после консолидации в годовой отчетности за 2023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08000" y="836640"/>
            <a:ext cx="87487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Скругленный прямоугольник 8"/>
          <p:cNvSpPr/>
          <p:nvPr/>
        </p:nvSpPr>
        <p:spPr>
          <a:xfrm>
            <a:off x="214200" y="260280"/>
            <a:ext cx="8715600" cy="92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e67c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19064"/>
                </a:solidFill>
                <a:latin typeface="Arial"/>
                <a:ea typeface="Arial"/>
              </a:rPr>
              <a:t>Остается после консолидации в годовой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Одинаковые показ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324000" y="1324080"/>
            <a:ext cx="849600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6"/>
          <p:cNvSpPr/>
          <p:nvPr/>
        </p:nvSpPr>
        <p:spPr>
          <a:xfrm flipV="1" rot="10800000">
            <a:off x="507960" y="348480"/>
            <a:ext cx="80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3659"/>
                </a:solidFill>
                <a:latin typeface="Arial Narrow"/>
                <a:ea typeface="Arial"/>
              </a:rPr>
              <a:t>        </a:t>
            </a:r>
            <a:r>
              <a:rPr b="1" lang="ru-RU" sz="2000" spc="-1" strike="noStrike">
                <a:solidFill>
                  <a:srgbClr val="c00000"/>
                </a:solidFill>
                <a:latin typeface="Arial Narrow"/>
                <a:ea typeface="Arial"/>
              </a:rPr>
              <a:t>Новое в квартальной отчетности в 2023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784080" y="790560"/>
            <a:ext cx="77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ормы 424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424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"/>
          <p:cNvSpPr/>
          <p:nvPr/>
        </p:nvSpPr>
        <p:spPr>
          <a:xfrm>
            <a:off x="395280" y="1344600"/>
            <a:ext cx="8224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тчетности на 1 апреля 2023 года коды доходов детализирова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 25467 04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110 151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Т из федерального бюджета текущего характер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 25513 14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110 161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Т из федерального бюджета капитально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 29999 04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220 15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БТ из областного бюджета текуще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 20077 14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220 16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БТ из областного бюджета капитально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9 35508 04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110 15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зврат федеральных МБТ текуще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9 35502 14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110 16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врат федеральных МБТ капитально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9 25497 04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220 151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т областных МБТ текуще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9 25013 14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220 161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т областных МБТ капитально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"/>
          <p:cNvSpPr/>
          <p:nvPr/>
        </p:nvSpPr>
        <p:spPr>
          <a:xfrm>
            <a:off x="490680" y="5037120"/>
            <a:ext cx="79531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В УФК изменение классификации с детализацией на 151 и 1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не производитс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соответствии с приказом Минфина России от 17.05.2022 года №75н Об утверждении кодов (перечней кодов) бюджетной классификации Российской Федерации на 2023 год (на 2023 год и на плановый период 2024 и 2025 годов) на конце у КБК доходов остается 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  <a:ea typeface="Arial"/>
              </a:rPr>
              <a:t>150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(аналитическая группа подвида доход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na</dc:creator>
  <dc:description/>
  <dc:language>en-US</dc:language>
  <cp:lastModifiedBy>User</cp:lastModifiedBy>
  <cp:lastPrinted>2023-04-06T10:04:32Z</cp:lastPrinted>
  <dcterms:modified xsi:type="dcterms:W3CDTF">2023-04-06T10:46:43Z</dcterms:modified>
  <cp:revision>4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