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3DE-B944-40B5-8304-FBECC62C7D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0E6A-0682-4C0F-8956-B62315A79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2C6-EE8B-46C5-AD23-4941C58D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C5C-87FA-44D5-A694-62BEC368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7C8-13AF-406C-9A3F-E34BFA35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AC7-9B8E-448B-8968-ECAD98A7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B85C-2CEE-4BEB-863F-482C01C5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585-CC9F-4701-8E6F-B8D2EB60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F2BE-2A57-4311-8ADE-E8A2A4B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8604-B692-4FE1-BAA4-E5438AA1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58E9-A9BC-4FC0-AFD3-15031A03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363-C785-4618-A24B-5855617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6ECF-B851-4391-BBFB-5CE1C231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601-6437-4A20-A2BB-2C61ED67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E109-F6A5-4E3E-A79E-6F6AF22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D3E-8C41-4A50-AFC8-2A6CB402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5FB2-8A3F-4065-B6AD-8E99A87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BAF3-1463-4525-BE2B-9D3526A8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46E6-0E7C-497E-90E2-936C604D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90EC-0C2B-422D-A6CB-70AA516C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1422E-1285-4054-B7BA-2F469C5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927B-3372-4230-BEDB-A3A3A409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7AA7-88B0-4207-B7FB-9CD1E5B4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9F0C-A6F3-410E-9999-7291CAED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1AC-8D0C-4F64-B2CE-153FD27C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E1E4-2282-40B2-9191-0FC3CC93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823E-9ED1-481F-AA76-263AAA96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3578-CEF7-4BF4-85E8-E3411EE4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9903-198A-4F59-A8ED-03AB8E4E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E28A-DB2F-4F72-99F0-2A2356D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2527-D9EC-4364-8A0D-E82F5349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2FF6-B7D3-4CFC-8A0D-60EA797B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A662-64B9-4260-8E7C-EDCBB405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5AF5E-924F-4A4D-8353-A61E039E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8631-A7B2-4B0C-B933-A3D4023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9D3-17CD-4283-B49C-DF47D62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28DD-B233-4605-870D-E7AE186E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5D69D-EF4B-4E01-A8DB-7A0160C3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BAD1C-39FD-4B52-9E58-C589C232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D5C5-F040-4E67-94F5-B798505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D22A4-10C1-4664-A30D-B2EAD25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64ED-027F-4C0A-A2BE-CEB5FA0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011E-AAF5-439E-AA6C-2325354A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B4E9-9007-4C06-AF4D-4167C128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6796-380E-4852-9253-F9ADC12E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74CAE-458A-4234-9560-434DB5DB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F54-A135-4CFD-A77E-E13B32A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732B2-2B0F-4EFF-B12F-6ADE4D3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7ECF-BEED-4172-A750-20CD3450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92DF9-8AF1-487B-A19C-1880CB98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BC6BE-BCC3-4CF2-AEF0-E25AE7B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E50F9-016F-4A3B-A171-CAC09472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0EA73-7307-4A98-9D20-C683A446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1EB8-B648-40A7-B74F-EEDA4BF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8B5F-BBAA-4DDA-BD4B-7E0F136E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E57D-BD09-40CF-AD65-F6996BA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C9228-8090-41DA-8425-0798E833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665-9DA9-4DD4-BB38-DCE1D28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6F6B0-A3AB-43B1-8298-472DEDDD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410DA-439B-4459-9A75-AF9E4943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2797C-C79C-4B61-901B-1CC9857E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8B9BD-848F-4B50-84F1-4198A7B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19C9C-0B35-4748-B2C9-E941528F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5F46F-EE23-4D82-8D2F-52666FE8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5342-84D1-40E8-AA4A-845E3A71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97C8-5425-48FF-801B-67454FB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C74E3-1FC9-4669-9531-29373DF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F83DE-EB73-41B7-AB50-8363B06C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ECC-FBA6-43B4-BF08-8382901E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2166-80A2-41D0-9C1A-B4BF4BE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1B657-431B-4D51-BF16-74338241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49A02-E6EA-4313-A382-B2DC1468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7A906-234D-4611-9E68-839B5D7E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861D-2941-4173-BE83-97FD8CF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B0D2F-73E0-43EF-B4EA-55344A1B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CE45-1EDC-458A-95C7-13878CB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037A-1BE3-4F6C-B92C-0595084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1E77D-B437-4C25-883A-77CE6E89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3E962-8349-48EF-8702-4E801013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588-9784-46E5-9E7D-FAAF7BF7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F108-E4E6-42B4-853F-54C191D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BA95-B96F-45A0-9B00-1F79ED49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86ED2-33A7-4753-AFD6-DFAA836D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303A-0B40-40D9-A0A6-49622CF0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A0DB0-4888-4144-A8CF-11CE4875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435-9059-4295-A0C4-DC2CBF01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052A-0CC6-48BB-ACCC-07FF73E7DC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DBA2-56EA-4E98-B059-32815E4FF36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AFF9-FDEE-4E51-89E2-A63AEBA76C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8A39-9400-459A-89F4-A1E9E38BB7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0F3-DB2E-44FD-92C1-E399F75BCDA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619A-EDEA-455C-BF53-1A615BAFF6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8B9A-161C-4A52-B8BC-FD0227D137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1992600" cy="1493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905040" y="1628640"/>
            <a:ext cx="75546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тоги составления отдельных форм годовой бюджетной отчетности за 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авка по заключению счетов бюджетного учета отчетного финансового года (форма 05031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олидированный отчет о финансовых результатах деятельности (форма 05033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числения в ф.42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КОСГУ 150 «Безвозмездные денежные поступления текущего характера» (детализированные 151,153,154, 15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КОСГУ160 «Безвозмездные денежные поступления капитального характера» (детализированные 161, 163,1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верка показател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тализированных КОСГУ ф.421 с ф.4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"/>
          <p:cNvSpPr/>
          <p:nvPr/>
        </p:nvSpPr>
        <p:spPr>
          <a:xfrm>
            <a:off x="539640" y="1341360"/>
            <a:ext cx="80866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468360" y="1268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"/>
          <p:cNvSpPr/>
          <p:nvPr/>
        </p:nvSpPr>
        <p:spPr>
          <a:xfrm>
            <a:off x="900000" y="11253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авка по консолидируемым расчетам (форма 05031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00000" y="1638360"/>
          <a:ext cx="7488360" cy="4489560"/>
        </p:xfrm>
        <a:graphic>
          <a:graphicData uri="http://schemas.openxmlformats.org/drawingml/2006/table">
            <a:tbl>
              <a:tblPr/>
              <a:tblGrid>
                <a:gridCol w="638280"/>
                <a:gridCol w="1343160"/>
                <a:gridCol w="1330200"/>
                <a:gridCol w="1449360"/>
                <a:gridCol w="2727360"/>
              </a:tblGrid>
              <a:tr h="6681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СБУ                 (код счета бюджетного уче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орреспондирующего сч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(СУМ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 gridSpan="5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ОПОЛНИТЕЛЬНО отражение в квартальной отчет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1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сление доходов МБТ текущего характе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1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7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становление МБТ текуще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1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сление доходов МБТ капитального характе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1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7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становление МБТ капитального 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10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01хх3х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е безвозмездных неденежных расчетов текущего и капит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10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06хх3х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20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01хх4х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дача  безвозмездных неденежных расчетов текущего и капит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20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06хх4х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тверждение потребности в расходовании средств текущего и капит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8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468360" y="1268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1"/>
          <p:cNvSpPr/>
          <p:nvPr/>
        </p:nvSpPr>
        <p:spPr>
          <a:xfrm>
            <a:off x="900000" y="1125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авка по консолидируемым расчетам (форма 05031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4360" y="1638360"/>
          <a:ext cx="7775280" cy="4654440"/>
        </p:xfrm>
        <a:graphic>
          <a:graphicData uri="http://schemas.openxmlformats.org/drawingml/2006/table">
            <a:tbl>
              <a:tblPr/>
              <a:tblGrid>
                <a:gridCol w="677880"/>
                <a:gridCol w="1255680"/>
                <a:gridCol w="1411200"/>
                <a:gridCol w="1538280"/>
                <a:gridCol w="2892240"/>
              </a:tblGrid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СБУ                 (код счета бюджетного уче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орреспондирующего сч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(СУМ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ДОПОЛНИТЕЛЬНО отражение в годовой отчет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5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ки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6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ки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51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сление по Соглаш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61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сление по Соглаш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516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ньшение дебиторской задолженности  по доходам МБТ в связи с уменьшением объема целевого МБ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616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1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ки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11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20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сление расходов по обслуживанию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ки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7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ие расчетов по МБТ в конце года , начисление 219 КБК к возвр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7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ки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140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ки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"/>
          <p:cNvSpPr/>
          <p:nvPr/>
        </p:nvSpPr>
        <p:spPr>
          <a:xfrm>
            <a:off x="755640" y="1125360"/>
            <a:ext cx="792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авка по консолидируемым расчетам (форма 05031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формировании Справки ф.0503125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афы 10-11-12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Контрагент по консолидируемым расчетам» заполняю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а 10 «Номер (код) организации: 00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а 11 «Код главы по БК: 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афа 12 «Код по ОКТМО: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179280" y="1844640"/>
            <a:ext cx="813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611280" y="1125360"/>
            <a:ext cx="828180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!!! Новое в КС – отображено красными черни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КС для финорганов и КС для БУ/А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ные соотношения к показател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ской отчетности государственны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муниципальных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юджетных и автономных учрежд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редставляемой в Федеральное казначейство главными распорядителями средств федерального бюджета, финансовыми органами субъектов Российской Федерации и органами управления государств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бюджетными фон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!!! МДК (междокументный контроль)  в отчетности БУ/АУ ф.710 с ф.410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тчетности финорганов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КС БУ/АУ страницы 138-1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!!! Начиная с отчетности за 2023 год, кроме форм 410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410m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должна создаваться форма 4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684360" y="98100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аблица соответствия аналитической группы подвида доходов бюджетов и статей (подстатей) классификации операций сектора государственного управления, применяемая в 2022 (2023) году в целях бухгалтерского (бюджетного) учета при отражении безвозмездных неденеж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ВД 207 10140 14 00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счет 1.40110.1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ВД 207 10140 14 0000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счет 1.40110.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аналитики группы подвида доход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ГП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езвозмезд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бюджетные неденежные поступ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ует Код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СГУ 19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Безвозмездные неденежные поступл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кущего характе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сектора гос.управления и организаций гос.сектора» и Код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СГУ 19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Безвозмездные неденежные поступл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питального характе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 сектора гос.управления и организаций гос.секто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755640" y="134136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ные соотношения для показателей 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олидированной бюджетной отчетности представляемой финансовыми органами субъектов Российской Федерации в Федеральное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оходы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ф.410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тражение АГПВД 194 по счетам 140110189, 140110191, 140110195 во всех разрезах ф. 0503110 недопуст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КС финорганов: страницы 11-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1"/>
          <p:cNvSpPr/>
          <p:nvPr/>
        </p:nvSpPr>
        <p:spPr>
          <a:xfrm>
            <a:off x="1116000" y="1800360"/>
            <a:ext cx="698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"/>
          <p:cNvSpPr/>
          <p:nvPr/>
        </p:nvSpPr>
        <p:spPr>
          <a:xfrm>
            <a:off x="539640" y="98100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"/>
          <p:cNvSpPr/>
          <p:nvPr/>
        </p:nvSpPr>
        <p:spPr>
          <a:xfrm>
            <a:off x="611280" y="134136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блица соответствия Кодов видов расходов (КВР) - КОСГУ , применяемая а 2022 (2023) году в целях бухгалтерского (бюджетного) учета при отражении  безвозмездных неденеж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ходы ф.410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ражение КВР 804 по счетам 140120241, 140120281 во всех разрезах ф. 0503110 недопуст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КС финорганов: страницы 14-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1116000" y="1800360"/>
            <a:ext cx="6985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"/>
          <p:cNvSpPr/>
          <p:nvPr/>
        </p:nvSpPr>
        <p:spPr>
          <a:xfrm>
            <a:off x="539640" y="9810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"/>
          <p:cNvSpPr/>
          <p:nvPr/>
        </p:nvSpPr>
        <p:spPr>
          <a:xfrm>
            <a:off x="684360" y="1627200"/>
            <a:ext cx="7991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ГПД 194 и КВР 804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ведомственные безвозмездные неденежные поступления и передачи примен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нутри одного бюджета (ОДНО ППО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ГРБС, учрежд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счеты по передачам (поступлениям) АГПД 194 и КВР 804 консолидируются на уровне финорган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1"/>
          <p:cNvSpPr/>
          <p:nvPr/>
        </p:nvSpPr>
        <p:spPr>
          <a:xfrm>
            <a:off x="755640" y="1700280"/>
            <a:ext cx="734544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аланс исполнения консолидированного бюджета субъекта РФ и бюджета территориального ГВБФ (форма 05033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авка о наличии имущества и обязательств на забалансовых счет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4 счет «Сомнительная задолжен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чет УФНС России по Нижегородской обла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ч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евыясненные поступления прошлых л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Остатки на начало и конец года по счету 1.20581.000 «Расчеты по невыясненным поступлениям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539640" y="981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1"/>
          <p:cNvSpPr/>
          <p:nvPr/>
        </p:nvSpPr>
        <p:spPr>
          <a:xfrm>
            <a:off x="809640" y="836640"/>
            <a:ext cx="792000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чет об использовании межбюджетных трансфертов из федерального бюджета и областного бюджета муниципальными образ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в СКИФ-БП форма 424 и форм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424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целях сверки расчетов по начислениям МБТ по КОСГУ 151 и 161 финорганов с начислениями 251 и 254 КОСГУ ГРБС, начиная с отчетности на 1 апреля 2023 года в отчетах ф.424 и ф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424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иды доходов МБТ текущего года и возвратов прошлых лет отражаются детализирова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02 25304 04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0110 151 –поступление МБТ за счет федеральных средств теку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19  60010 14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0220 161 – возврат остатков прошлых лет за счет средств областного бюджета капитального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! Коды доходов по МБТ по кассовому исполнению отражаются в соответствии с приказом Минфина России от 08.06.2021 № 7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ез детализации 150 КОС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468360" y="1268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900000" y="11253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равка по консолидируемым расчетам (форма 05031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71640" y="1844640"/>
          <a:ext cx="7162560" cy="4114800"/>
        </p:xfrm>
        <a:graphic>
          <a:graphicData uri="http://schemas.openxmlformats.org/drawingml/2006/table">
            <a:tbl>
              <a:tblPr/>
              <a:tblGrid>
                <a:gridCol w="1768320"/>
                <a:gridCol w="1698840"/>
                <a:gridCol w="1671480"/>
                <a:gridCol w="2023920"/>
              </a:tblGrid>
              <a:tr h="981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СБУ                 (код счета бюджетного уче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корреспондирующего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(СУМ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4"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тражение в месячной отчетности денежных расчет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516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002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5616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002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11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002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Креди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111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405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002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305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002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б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na</dc:creator>
  <dc:description/>
  <dc:language>en-US</dc:language>
  <cp:lastModifiedBy>User</cp:lastModifiedBy>
  <cp:lastPrinted>2019-12-06T13:34:25Z</cp:lastPrinted>
  <dcterms:modified xsi:type="dcterms:W3CDTF">2023-04-06T06:38:41Z</dcterms:modified>
  <cp:revision>6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